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4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4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4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4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20.xml"/><Relationship Id="rId14" Type="http://schemas.openxmlformats.org/officeDocument/2006/relationships/slide" Target="slide41.xml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4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20.xml"/><Relationship Id="rId17" Type="http://schemas.openxmlformats.org/officeDocument/2006/relationships/slide" Target="slide22.xml"/><Relationship Id="rId18" Type="http://schemas.openxmlformats.org/officeDocument/2006/relationships/slide" Target="slide22.xml"/><Relationship Id="rId1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4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1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1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" Target="slide1.xml"/><Relationship Id="rId6" Type="http://schemas.openxmlformats.org/officeDocument/2006/relationships/slide" Target="slide29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1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slide" Target="slide36.xml"/><Relationship Id="rId6" Type="http://schemas.openxmlformats.org/officeDocument/2006/relationships/slide" Target="slide36.xml"/><Relationship Id="rId7" Type="http://schemas.openxmlformats.org/officeDocument/2006/relationships/slide" Target="slide1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slide" Target="slide32.xml"/><Relationship Id="rId1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1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31.xml"/><Relationship Id="rId10" Type="http://schemas.openxmlformats.org/officeDocument/2006/relationships/slide" Target="slide32.xml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9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9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1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48.xml"/><Relationship Id="rId3" Type="http://schemas.openxmlformats.org/officeDocument/2006/relationships/slide" Target="slide41.xml"/><Relationship Id="rId4" Type="http://schemas.openxmlformats.org/officeDocument/2006/relationships/slide" Target="slide1.xml"/><Relationship Id="rId5" Type="http://schemas.openxmlformats.org/officeDocument/2006/relationships/slide" Target="slide39.xml"/><Relationship Id="rId6" Type="http://schemas.openxmlformats.org/officeDocument/2006/relationships/slide" Target="slide40.xml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1.xml"/><Relationship Id="rId5" Type="http://schemas.openxmlformats.org/officeDocument/2006/relationships/slide" Target="slide39.xml"/><Relationship Id="rId6" Type="http://schemas.openxmlformats.org/officeDocument/2006/relationships/slide" Target="slide40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1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2.xml"/><Relationship Id="rId10" Type="http://schemas.openxmlformats.org/officeDocument/2006/relationships/slide" Target="slide42.xml"/><Relationship Id="rId11" Type="http://schemas.openxmlformats.org/officeDocument/2006/relationships/slide" Target="slide42.xml"/><Relationship Id="rId1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" Target="slide44.xml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" Target="slide46.xml"/><Relationship Id="rId5" Type="http://schemas.openxmlformats.org/officeDocument/2006/relationships/slide" Target="slide1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2.xml"/><Relationship Id="rId10" Type="http://schemas.openxmlformats.org/officeDocument/2006/relationships/slide" Target="slide42.xml"/><Relationship Id="rId11" Type="http://schemas.openxmlformats.org/officeDocument/2006/relationships/slide" Target="slide42.xml"/><Relationship Id="rId12" Type="http://schemas.openxmlformats.org/officeDocument/2006/relationships/slide" Target="slide43.xml"/><Relationship Id="rId13" Type="http://schemas.openxmlformats.org/officeDocument/2006/relationships/slide" Target="slide44.xml"/><Relationship Id="rId1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" Target="slide44.xml"/><Relationship Id="rId10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" Target="slide44.xml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slide" Target="slide42.xml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50.xml"/><Relationship Id="rId6" Type="http://schemas.openxmlformats.org/officeDocument/2006/relationships/slide" Target="slide1.xml"/><Relationship Id="rId7" Type="http://schemas.openxmlformats.org/officeDocument/2006/relationships/slide" Target="slide39.xml"/><Relationship Id="rId8" Type="http://schemas.openxmlformats.org/officeDocument/2006/relationships/slide" Target="slide40.xml"/><Relationship Id="rId9" Type="http://schemas.openxmlformats.org/officeDocument/2006/relationships/slide" Target="slide48.xml"/><Relationship Id="rId10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1.xml"/><Relationship Id="rId3" Type="http://schemas.openxmlformats.org/officeDocument/2006/relationships/slide" Target="slide51.xml"/><Relationship Id="rId4" Type="http://schemas.openxmlformats.org/officeDocument/2006/relationships/slide" Target="slide51.xml"/><Relationship Id="rId5" Type="http://schemas.openxmlformats.org/officeDocument/2006/relationships/slide" Target="slide51.xml"/><Relationship Id="rId6" Type="http://schemas.openxmlformats.org/officeDocument/2006/relationships/slide" Target="slide1.xml"/><Relationship Id="rId7" Type="http://schemas.openxmlformats.org/officeDocument/2006/relationships/slide" Target="slide39.xml"/><Relationship Id="rId8" Type="http://schemas.openxmlformats.org/officeDocument/2006/relationships/slide" Target="slide40.xml"/><Relationship Id="rId9" Type="http://schemas.openxmlformats.org/officeDocument/2006/relationships/slide" Target="slide48.xml"/><Relationship Id="rId10" Type="http://schemas.openxmlformats.org/officeDocument/2006/relationships/slide" Target="slide50.xml"/><Relationship Id="rId11" Type="http://schemas.openxmlformats.org/officeDocument/2006/relationships/slide" Target="slide50.xml"/><Relationship Id="rId12" Type="http://schemas.openxmlformats.org/officeDocument/2006/relationships/slide" Target="slide50.xml"/><Relationship Id="rId1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8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3.xml"/><Relationship Id="rId3" Type="http://schemas.openxmlformats.org/officeDocument/2006/relationships/slide" Target="slide1.xml"/><Relationship Id="rId4" Type="http://schemas.openxmlformats.org/officeDocument/2006/relationships/slide" Target="slide39.xml"/><Relationship Id="rId5" Type="http://schemas.openxmlformats.org/officeDocument/2006/relationships/slide" Target="slide40.xml"/><Relationship Id="rId6" Type="http://schemas.openxmlformats.org/officeDocument/2006/relationships/slide" Target="slide52.xml"/><Relationship Id="rId7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o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yan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a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kter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3" idx="1"/>
          </p:cNvCxnSpPr>
          <p:nvPr/>
        </p:nvCxnSpPr>
        <p:spPr>
          <a:xfrm flipV="1">
            <a:off x="3313080" y="2054880"/>
            <a:ext cx="2708640" cy="202752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1" idx="3"/>
            <a:endCxn id="104" idx="1"/>
          </p:cNvCxnSpPr>
          <p:nvPr/>
        </p:nvCxnSpPr>
        <p:spPr>
          <a:xfrm>
            <a:off x="3313080" y="4082040"/>
            <a:ext cx="2708640" cy="20260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leimhä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färb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8800" y="549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leimhäute verfärb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gener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Ursache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noch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xtramedul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3"/>
            <a:endCxn id="16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4" name=""/>
          <p:cNvCxnSpPr>
            <a:stCxn id="160" idx="3"/>
            <a:endCxn id="16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1044000" y="549360"/>
            <a:ext cx="65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regenerative 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ch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44000" y="549360"/>
            <a:ext cx="65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sache im Knoch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rythrozyt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Reih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1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6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2" name=""/>
          <p:cNvCxnSpPr>
            <a:endCxn id="17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rythrozyt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ih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06200" y="549360"/>
            <a:ext cx="682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sache im Knochenmark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erythrozytäre Reihe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3"/>
            <a:endCxn id="17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eLV-C-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tikörper g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rythrozyten-Vorläuferzell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Chloramphenico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2000" y="6153480"/>
            <a:ext cx="36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-C = felines Leukämievirus Typ C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3000" y="549360"/>
            <a:ext cx="69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sache im Knochenmark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3"/>
            <a:endCxn id="18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medul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44000" y="549360"/>
            <a:ext cx="65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PO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purenelement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6" idx="3"/>
            <a:endCxn id="18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1" name=""/>
          <p:cNvCxnSpPr>
            <a:stCxn id="186" idx="3"/>
            <a:endCxn id="18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54160" y="639684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PO = Erythropoet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PO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14480" y="549360"/>
            <a:ext cx="66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PO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4" idx="3"/>
            <a:endCxn id="19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9" name=""/>
          <p:cNvCxnSpPr>
            <a:stCxn id="194" idx="3"/>
            <a:endCxn id="19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4160" y="639684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PO = Erythropoet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2" idx="3"/>
            <a:endCxn id="20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5" name=""/>
          <p:cNvCxnSpPr>
            <a:stCxn id="202" idx="3"/>
            <a:endCxn id="20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adren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rtizi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59120" y="549360"/>
            <a:ext cx="77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PO-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influ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on 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4160" y="639684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PO = Erythropoet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purenelement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3"/>
            <a:endCxn id="212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3" name=""/>
          <p:cNvCxnSpPr>
            <a:stCxn id="210" idx="3"/>
            <a:endCxn id="21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0" idx="3"/>
            <a:endCxn id="215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tamin-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tamin-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4000" y="549360"/>
            <a:ext cx="65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purenelement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senein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ch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9" idx="3"/>
            <a:endCxn id="22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3" name=""/>
          <p:cNvCxnSpPr>
            <a:stCxn id="219" idx="3"/>
            <a:endCxn id="22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1044000" y="549360"/>
            <a:ext cx="65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7" idx="3"/>
            <a:endCxn id="22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ein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ämie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ankhe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0560" y="549360"/>
            <a:ext cx="68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örung des Eiseneinba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a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3"/>
            <a:endCxn id="111" idx="1"/>
          </p:cNvCxnSpPr>
          <p:nvPr/>
        </p:nvCxnSpPr>
        <p:spPr>
          <a:xfrm flipV="1">
            <a:off x="3313080" y="3361680"/>
            <a:ext cx="2689920" cy="7196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2" name=""/>
          <p:cNvCxnSpPr>
            <a:stCxn id="109" idx="3"/>
            <a:endCxn id="11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954360" y="54936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79864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oc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ch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s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1" idx="3"/>
            <a:endCxn id="23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5" name=""/>
          <p:cNvCxnSpPr>
            <a:stCxn id="231" idx="3"/>
            <a:endCxn id="2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1044000" y="549360"/>
            <a:ext cx="65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echter Eis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im Kleinti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9" idx="3"/>
            <a:endCxn id="24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s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4000" y="549360"/>
            <a:ext cx="65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echter 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Eis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gen-Darm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3" idx="3"/>
            <a:endCxn id="24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7" name=""/>
          <p:cNvCxnSpPr>
            <a:stCxn id="243" idx="3"/>
            <a:endCxn id="24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1092240" y="549360"/>
            <a:ext cx="76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echter Eisen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7" action="ppaction://hlinksldjump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8" action="ppaction://hlinksldjump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gen-Darm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92240" y="549360"/>
            <a:ext cx="769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regenerative 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medullär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purenelement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isenmangel &gt; echter Eisenmangel &gt; 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lutung &gt; 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0" idx="3"/>
            <a:endCxn id="25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lzer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ortale Hypertension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äsionensetz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armparasit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6280" y="549360"/>
            <a:ext cx="82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leimhäute verfärbt &gt; blass &gt; Anämie &gt; aregenerativ &gt; ech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egenerative Anämie &gt; extramedulläre Ursache &gt; Vitamin-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urenelementmangel &gt; Eisenmangel &gt; echter Eisenmangel &gt; 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lutung &gt; Blutung in den 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5" idx="3"/>
            <a:endCxn id="25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o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fluss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64" name=""/>
          <p:cNvCxnSpPr>
            <a:stCxn id="260" idx="3"/>
            <a:endCxn id="26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lyzyth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47160" y="5493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o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fluss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sodil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rhöh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rdi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utauswur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7" idx="3"/>
            <a:endCxn id="26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71" name=""/>
          <p:cNvCxnSpPr>
            <a:stCxn id="267" idx="3"/>
            <a:endCxn id="26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72" name=""/>
          <p:cNvSpPr/>
          <p:nvPr/>
        </p:nvSpPr>
        <p:spPr>
          <a:xfrm>
            <a:off x="1003680" y="54936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o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lutfluss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odil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3"/>
            <a:endCxn id="27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77" name=""/>
          <p:cNvCxnSpPr>
            <a:stCxn id="274" idx="3"/>
            <a:endCxn id="278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oc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 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8480" y="54936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o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fluss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asodil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höh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rdi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auswur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5520" y="549360"/>
            <a:ext cx="75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o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fluss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rhöhter kardialer Blutauswur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rke physische Belast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yan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yan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okal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Zyan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3"/>
            <a:endCxn id="28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90" name=""/>
          <p:cNvCxnSpPr>
            <a:stCxn id="286" idx="3"/>
            <a:endCxn id="28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979920" y="549360"/>
            <a:ext cx="37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zyan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3"/>
            <a:endCxn id="11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3"/>
            <a:endCxn id="11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979920" y="549360"/>
            <a:ext cx="42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yan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auerstoff im Blu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3" idx="3"/>
            <a:endCxn id="29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97" name=""/>
          <p:cNvCxnSpPr>
            <a:stCxn id="293" idx="3"/>
            <a:endCxn id="29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9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thämoglo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4160" y="549360"/>
            <a:ext cx="63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yano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neralisierte Zyan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 im Blu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minder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rdi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wur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0" idx="3"/>
            <a:endCxn id="303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4" name=""/>
          <p:cNvCxnSpPr>
            <a:stCxn id="300" idx="3"/>
            <a:endCxn id="30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misch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rteriellem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0" idx="3"/>
            <a:endCxn id="30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1063800" y="549360"/>
            <a:ext cx="65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zyano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generalisierte Zyan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auerstoff im Blu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temwegserkr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wegserkr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b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ingeschrän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unge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9" idx="3"/>
            <a:endCxn id="31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3" name=""/>
          <p:cNvCxnSpPr>
            <a:stCxn id="309" idx="3"/>
            <a:endCxn id="31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1063800" y="549360"/>
            <a:ext cx="65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zyano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neralisierte Zyan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auerstoff im Blu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temwegserkr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3840" y="549360"/>
            <a:ext cx="72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yano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neralisierte Zyan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auerstoff im Blu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temwegserkrank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Obstruktion der ob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6" idx="3"/>
            <a:endCxn id="31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alkollap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rynxparaly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achiozephalen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kute allergische Schwellung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geschrän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unge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3800" y="549360"/>
            <a:ext cx="65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yano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neralisierte Zyan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auerstoff im Blu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temwegserkrank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ingeschrän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unge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321" idx="3"/>
            <a:endCxn id="32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ö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kardiogen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cht-kardiog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minder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rdi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wur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3800" y="549360"/>
            <a:ext cx="65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yano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neralisierte Zyan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auerstoff im Blu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minderter kardialer Auswur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C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ortensten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251640" y="6396840"/>
            <a:ext cx="32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CM = dilatative Kardiomy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21040" y="549360"/>
            <a:ext cx="72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yano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neralisierte Zyan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auerstoff im Blu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mischung von arteriellem und 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misch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teriellem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3"/>
            <a:endCxn id="33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mgedrehter PD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mgedrehter VS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ulmonäre ateriovenöse Fiste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3080" y="6153480"/>
            <a:ext cx="374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A = persistierender Ductus aterios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SD = Ventrikelseptumdefek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yan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3"/>
            <a:endCxn id="340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031400" y="549360"/>
            <a:ext cx="55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yano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okale Zyan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efäß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fäß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7320" y="549360"/>
            <a:ext cx="63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yano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okale Zyano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fäß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3" idx="3"/>
            <a:endCxn id="34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4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9" idx="3"/>
            <a:endCxn id="35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kter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79560" y="54936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kter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Hämoly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3"/>
            <a:endCxn id="12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7" name=""/>
          <p:cNvCxnSpPr>
            <a:stCxn id="123" idx="3"/>
            <a:endCxn id="12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1024920" y="549360"/>
            <a:ext cx="56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lutung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3" idx="3"/>
            <a:endCxn id="355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56" name=""/>
          <p:cNvCxnSpPr>
            <a:stCxn id="353" idx="3"/>
            <a:endCxn id="35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58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3" idx="3"/>
            <a:endCxn id="358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71000" y="549360"/>
            <a:ext cx="56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kter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3" idx="3"/>
            <a:endCxn id="36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fall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28960" y="549360"/>
            <a:ext cx="72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kter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fall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y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7" idx="3"/>
            <a:endCxn id="36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71" name=""/>
          <p:cNvCxnSpPr>
            <a:stCxn id="367" idx="3"/>
            <a:endCxn id="36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1128600" y="549360"/>
            <a:ext cx="74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leimhäute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kter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4" idx="3"/>
            <a:endCxn id="37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77" name=""/>
          <p:cNvCxnSpPr>
            <a:stCxn id="374" idx="3"/>
            <a:endCxn id="378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en i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örperhöhlen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ato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28600" y="549360"/>
            <a:ext cx="74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kter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bbau von 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81" idx="3"/>
            <a:endCxn id="38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85" name=""/>
          <p:cNvCxnSpPr>
            <a:stCxn id="381" idx="3"/>
            <a:endCxn id="38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1128600" y="549360"/>
            <a:ext cx="74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leimhäute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kter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Abbau von 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1680" y="549360"/>
            <a:ext cx="744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kter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bbau von 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ly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8" idx="3"/>
            <a:endCxn id="39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upferintoxi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dlington-Terrie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wendung e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lysmas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tungswa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abetischer Ketoazid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er Babes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640" y="615348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87560" y="549360"/>
            <a:ext cx="749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kter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bbau von 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ly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4" idx="3"/>
            <a:endCxn id="39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bes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 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trophen Mykoplasm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400" idx="3"/>
            <a:endCxn id="401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y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zell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8600" y="549360"/>
            <a:ext cx="74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kter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bbau von Myoglobi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4" idx="3"/>
            <a:endCxn id="40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08" name=""/>
          <p:cNvCxnSpPr>
            <a:stCxn id="404" idx="3"/>
            <a:endCxn id="4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09" name=""/>
          <p:cNvSpPr/>
          <p:nvPr/>
        </p:nvSpPr>
        <p:spPr>
          <a:xfrm>
            <a:off x="1116000" y="54936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kter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15640" y="549360"/>
            <a:ext cx="70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kter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epa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1" idx="3"/>
            <a:endCxn id="41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Hämoly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0" idx="3"/>
            <a:endCxn id="13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1075680" y="549360"/>
            <a:ext cx="69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(Hämolys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portsyste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durch TNF-</a:t>
            </a:r>
            <a:r>
              <a:rPr b="0" lang="el-GR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α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7" idx="3"/>
            <a:endCxn id="420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21" name=""/>
          <p:cNvCxnSpPr>
            <a:stCxn id="417" idx="3"/>
            <a:endCxn id="41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ur Pferd und Ri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15640" y="549360"/>
            <a:ext cx="70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chleimhäute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kter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epatozellulär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 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7040" y="639684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TNF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= Tumornekrosefaktor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ansportsyste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durch TNF-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15640" y="549360"/>
            <a:ext cx="708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kter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epatozellulär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Bilirubintransport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Transportsystems (durch TNF-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chgradige 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Sepsis, FIP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5910120"/>
            <a:ext cx="307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TNF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= Tumornekrosefaktor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  <a:ea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  <a:ea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alleng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1" idx="3"/>
            <a:endCxn id="43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35" name=""/>
          <p:cNvCxnSpPr>
            <a:stCxn id="431" idx="3"/>
            <a:endCxn id="4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rup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41560" y="549360"/>
            <a:ext cx="73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kter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1200" y="549360"/>
            <a:ext cx="75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kter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hepa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allengangs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8" idx="3"/>
            <a:endCxn id="44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angiohep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gangskarzin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tein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5680" y="549360"/>
            <a:ext cx="69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Hämolys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x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7" idx="3"/>
            <a:endCxn id="14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bes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 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trophen Mykoplasm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75680" y="549360"/>
            <a:ext cx="69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Hämolyse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in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3"/>
            <a:endCxn id="1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upferintoxi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dlington-Terrie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wendung e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lysmas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tungswa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abetischer Ketoazid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er Babes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640" y="615348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seud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regener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cht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regener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3"/>
            <a:endCxn id="14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2" name=""/>
          <p:cNvCxnSpPr>
            <a:stCxn id="148" idx="3"/>
            <a:endCxn id="15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1025280" y="549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regener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6" idx="3"/>
            <a:endCxn id="15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eud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generat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der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24560" y="549360"/>
            <a:ext cx="59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eimhäute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las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regenerativ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seudo-aregenerative A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7:33:57Z</dcterms:modified>
  <cp:revision>337</cp:revision>
  <dc:subject/>
  <dc:title>Vorstellung einer Neuheit</dc:title>
</cp:coreProperties>
</file>